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ACE6-F8A4-4D35-891A-1FDF4065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A27E-3B8D-4683-8634-6F369893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A77F-24DF-4F5D-8DB8-6A417238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882B-C760-4CE4-B81A-2331E2077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9842-BC48-4B3E-8400-5BC1B1BC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F9E4-AAB7-4B6E-AAF7-12B308FB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5648-9CA2-4F56-B45C-D9C4B226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39CE-E005-4670-8839-5FCBAFDB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E94E-CF80-4AE7-AEB4-028D6126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E494-B8B1-4BDF-AFEC-FDB6C269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BF08-FA72-4749-B6EF-384E841D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68AE-90A3-445A-926E-CCAFDA54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3D79-CCF2-4E0E-9E0E-053A0D9E9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65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Arial"/>
              </a:rPr>
              <a:t>İlginççç…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 damlası ve dalga yansıması görünümünde masa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496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kı yapabilen dijital fotoğraf makinesi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9640" y="1228680"/>
            <a:ext cx="7993080" cy="52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Şeffaf bilardo masası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lik ve süzge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61214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Şeffaf sandal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4000" y="1547640"/>
            <a:ext cx="8424720" cy="49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ş fırçası temizleyici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993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knolojiye ayak uyduran bu çakı mp3 çalar özelliğine sa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704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Şaffaf görünümlü müzik sistem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000" y="1528920"/>
            <a:ext cx="842472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Şarj edilebilir cep sobas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1781280"/>
            <a:ext cx="820908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at şeklinde telef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632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de kayak keyfi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713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ni eğlence parmak oyunlar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7345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hçe ışıklandırma sistem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353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üt kutusu görünümde hoparlö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064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blosuz cep klavye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9640" y="1595520"/>
            <a:ext cx="813600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l görünümlü uzaktan kuma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1562040"/>
            <a:ext cx="828036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ullanım fonksiyonu geliştirilmiş matka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dek şarj cihaz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1298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579640" y="263664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tlanılabilir bisik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46796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on enerjisiyle çalışan sa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136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.KADİR AKBA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KNOLOJİ VE TASARIM ÖĞRETMEN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k değiştirebilen masa örtüs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1509840"/>
            <a:ext cx="842472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ya ve paslanmaya dayanıklı cep telefon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569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Para görünümünde flash d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1576440"/>
            <a:ext cx="777708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meklerin soğumasını engelleyen bu tabaklarda yumurta dahi pişirebilirsini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353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diven ve ayakkabı kurutuc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47640" y="1047600"/>
            <a:ext cx="6480360" cy="56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kamları akrep ve yelkovan üzerinde gösteren sa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1533600"/>
            <a:ext cx="799128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İç tarafına gizlenmiş özel ekranı sayesinde dokunmatik olarak kullanılabilen ağaç rady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064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9:58:29Z</dcterms:created>
  <dc:creator>dilan</dc:creator>
  <dc:description/>
  <dc:language>en-US</dc:language>
  <cp:lastModifiedBy>dilan</cp:lastModifiedBy>
  <dcterms:modified xsi:type="dcterms:W3CDTF">2009-02-12T20:23:42Z</dcterms:modified>
  <cp:revision>23</cp:revision>
  <dc:subject/>
  <dc:title>Slayt 1</dc:title>
</cp:coreProperties>
</file>